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6CDF-E1AD-4A63-9855-FD408595E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C635-8001-4A6E-B809-9B1979D98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903C-E2BD-48B3-8107-927935834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4F94-10FC-4734-B6F2-88BEEBEEE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8899-0D27-4296-8082-90E52125D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C05-A688-416C-9678-74B2A5C7C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D395-ADF3-4693-817F-33F4AB7B2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03A-AD6D-42D2-9864-3C28EB3FE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7967-EB6B-4CF8-8196-D96A869E6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EAC3-F946-475E-9A0C-717B2E1EE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749B-6FA3-4487-AB90-6B3371DB2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A32B-0601-4564-805A-5EF5DA61A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CF24-1702-4471-A589-5F7B9EF77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3743-C704-4DE0-837D-113DC11B8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AF5-7366-4B77-B9DA-723D41D8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B05-B0A0-4704-B21E-18813FAB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F97-75AE-4FC0-BA6B-8C83177A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610-BD29-4CF2-ADEE-F16142F4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B834-E1EF-4E80-8E67-22DFCB18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A7C0-2DC4-4E0B-B896-B958F107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F58A-E85A-4BBE-94CE-5FAEBEF1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8988-A17B-415B-BC03-B188FD68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31D0-6F77-4B08-B10C-9F8A83C1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BC42-D364-4F6E-9E1D-B01C593D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0EB0-D0C6-48AD-B39C-47B30BB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AF1-404D-4CCE-A4FF-FF0881EE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2623-E316-4B59-94A5-2328D1BC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5432-DDC9-4D96-B691-EABCF24C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1126-7BFF-4F2E-8143-A771EE14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8EC5-6D1C-440B-B2CF-F466EB2B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E04E-C1B8-4470-A36B-7C7D4516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AFC9-BB9A-4F1B-953E-403BE456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E70E-A10A-4C19-805E-BA57992A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02BD-03F2-4EF7-B6C6-503A7E93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8211-2DF9-4417-AB85-54153F50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0E52-489C-4B52-8826-E0859FDE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9AA-FF27-42B2-9C2B-6CF59516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CAAB-8AAE-4DAE-9BE9-815BC7CA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4315A-8BBF-445E-AD5E-FBC03F84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BB4D1-8ACA-4033-B092-238CCB2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E310-C268-4FE6-AD53-2EE8CC2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6E42-CA98-46F1-8814-E3E7574C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DE62-2988-4922-97EF-B2BB435E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0EC55-8AE9-40C6-87BD-12050A88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1F3E-A92E-481D-8B7B-60186723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17C51-5039-4502-81CB-56E30622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475B-19DC-47A6-B854-2E15F9B6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718-FF71-4C99-8144-75221A36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546D-6628-4DD9-9A42-6CBF5CA5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6633-138A-4043-ACC5-CF16B1CB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DBF2-231D-4ADA-8609-99CFDB6C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747A-B89D-482C-A108-FCA04336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8BE6-AD23-49EE-842E-2373B3D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9AA8-D9D3-42BC-BDBB-520289E9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4137-B301-4729-B71D-14F3D17C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C144-D184-45B6-A1D3-5EE443AD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796D-F026-4D9B-BFF5-1D75EED5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1135-4668-4474-8F7A-D3B4EA64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226-FB5A-4581-8085-005AC470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B8DAE-0C0A-409C-8D60-4CD41429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1767F-3C46-419E-9C30-4B223E1F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917E-F794-4CB2-A4B3-49315280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C7FC8-1E22-4C08-9466-780E793D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AD07-FEE0-4987-A62A-559ECA5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8FCB-FC0E-4F1D-B7AC-250CD0CB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F03DB-7A01-4D88-AC50-4147CD62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94130-DF9E-4BD3-B3D2-0434CC39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3D43-49F4-40A3-A9C9-5A010A7E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FC054-89A8-4E1F-9D62-E1B30802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003-2AEB-4332-AA8A-964F2DA3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4F6F6-C666-436F-8D9B-CBB436B0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356-1BCC-42A6-AE03-8206D2FE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91A-E04E-4306-A945-93044963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1174-AE92-45EB-B550-F97D079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0BB-1B0A-42C0-9E4A-E60A31BCBAD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750C-B08D-4166-8ADD-C08894B7E1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F998-D6C2-4EFA-B380-186FF8E7B67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A99D-37B3-494C-87EA-7A72EDF18AB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D34E-8A5E-4EA7-9A42-79C70ED47D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desa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desa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Winter 201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4-Sight Data Analy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Reading Results / Non-Serviced Student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914400" y="1447920"/>
          <a:ext cx="3749760" cy="205740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956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933800" y="1447920"/>
          <a:ext cx="3749760" cy="482904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5-Point Star 6"/>
          <p:cNvSpPr/>
          <p:nvPr/>
        </p:nvSpPr>
        <p:spPr>
          <a:xfrm>
            <a:off x="4191120" y="30481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5-Point Star 7"/>
          <p:cNvSpPr/>
          <p:nvPr/>
        </p:nvSpPr>
        <p:spPr>
          <a:xfrm>
            <a:off x="4267080" y="259092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5-Point Star 10"/>
          <p:cNvSpPr/>
          <p:nvPr/>
        </p:nvSpPr>
        <p:spPr>
          <a:xfrm>
            <a:off x="8305920" y="25909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5-Point Star 11"/>
          <p:cNvSpPr/>
          <p:nvPr/>
        </p:nvSpPr>
        <p:spPr>
          <a:xfrm>
            <a:off x="8305920" y="29718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5-Point Star 12"/>
          <p:cNvSpPr/>
          <p:nvPr/>
        </p:nvSpPr>
        <p:spPr>
          <a:xfrm>
            <a:off x="8305920" y="335268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5-Point Star 13"/>
          <p:cNvSpPr/>
          <p:nvPr/>
        </p:nvSpPr>
        <p:spPr>
          <a:xfrm>
            <a:off x="8305920" y="37339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5-Point Star 14"/>
          <p:cNvSpPr/>
          <p:nvPr/>
        </p:nvSpPr>
        <p:spPr>
          <a:xfrm>
            <a:off x="8305920" y="41148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5-Point Star 15"/>
          <p:cNvSpPr/>
          <p:nvPr/>
        </p:nvSpPr>
        <p:spPr>
          <a:xfrm>
            <a:off x="8305920" y="449568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5-Point Star 16"/>
          <p:cNvSpPr/>
          <p:nvPr/>
        </p:nvSpPr>
        <p:spPr>
          <a:xfrm>
            <a:off x="8305920" y="48769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5-Point Star 17"/>
          <p:cNvSpPr/>
          <p:nvPr/>
        </p:nvSpPr>
        <p:spPr>
          <a:xfrm>
            <a:off x="8305920" y="518148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5-Point Star 18"/>
          <p:cNvSpPr/>
          <p:nvPr/>
        </p:nvSpPr>
        <p:spPr>
          <a:xfrm>
            <a:off x="8305920" y="556272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-Point Star 19"/>
          <p:cNvSpPr/>
          <p:nvPr/>
        </p:nvSpPr>
        <p:spPr>
          <a:xfrm>
            <a:off x="8305920" y="59436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Reading Remediation with Mrs. Snyder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80880" y="1447920"/>
          <a:ext cx="4283280" cy="4343400"/>
        </p:xfrm>
        <a:graphic>
          <a:graphicData uri="http://schemas.openxmlformats.org/drawingml/2006/table">
            <a:tbl>
              <a:tblPr/>
              <a:tblGrid>
                <a:gridCol w="1071720"/>
                <a:gridCol w="1069920"/>
                <a:gridCol w="982800"/>
                <a:gridCol w="1158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800600" y="1447920"/>
          <a:ext cx="4114800" cy="4343400"/>
        </p:xfrm>
        <a:graphic>
          <a:graphicData uri="http://schemas.openxmlformats.org/drawingml/2006/table">
            <a:tbl>
              <a:tblPr/>
              <a:tblGrid>
                <a:gridCol w="1201680"/>
                <a:gridCol w="855720"/>
                <a:gridCol w="838080"/>
                <a:gridCol w="1219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5-Point Star 9"/>
          <p:cNvSpPr/>
          <p:nvPr/>
        </p:nvSpPr>
        <p:spPr>
          <a:xfrm>
            <a:off x="3124080" y="541008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5-Point Star 10"/>
          <p:cNvSpPr/>
          <p:nvPr/>
        </p:nvSpPr>
        <p:spPr>
          <a:xfrm>
            <a:off x="3200400" y="48769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5-Point Star 11"/>
          <p:cNvSpPr/>
          <p:nvPr/>
        </p:nvSpPr>
        <p:spPr>
          <a:xfrm>
            <a:off x="7391520" y="3809880"/>
            <a:ext cx="304560" cy="30492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5-Point Star 12"/>
          <p:cNvSpPr/>
          <p:nvPr/>
        </p:nvSpPr>
        <p:spPr>
          <a:xfrm>
            <a:off x="7315200" y="3276720"/>
            <a:ext cx="304920" cy="30456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Math Results IEP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14400" y="1143000"/>
          <a:ext cx="3749760" cy="334332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9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952880" y="990720"/>
          <a:ext cx="3749760" cy="520056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Math Results / Non-Serviced Student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380880" y="251280"/>
            <a:ext cx="8305920" cy="61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4-Sight Data Analysis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Calibri"/>
              </a:rPr>
              <a:t>1/27/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Predicted Proficiency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Test Results – Student 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Listed by Performance Level – Use this fo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DATA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Check to see if any students are missing or do not have scores li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Item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Item Analysis Worksheet 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Calibri"/>
              </a:rPr>
              <a:t>Fill out and post to Q-Drive by 2/3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  <a:ea typeface="Calibri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Questions covered prior to 1/12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Did students meet the Proficiency %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NO – Cover again with new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YES – How close were they?  If they just made it, revisit the con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Questions NOT covered prior to 1/12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Check for increase or decrease of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Develop a timeline to cover th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Check wording and format of questions and make sure you provide instruction that is iden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to that wording and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Re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SAS, PDE Practice Questions, Coach Books, Study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Student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Review this with the students.  Discuss your action plan with the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Attach Parent Explanation Letter and review results at Parent Teacher Confer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Parent Le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2011-2012 AYP Goals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374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Proficiency Goal = 81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4-Sight 9/1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3</a:t>
            </a:r>
            <a:r>
              <a:rPr b="1" lang="en-US" sz="2400" spc="-1" strike="noStrike" baseline="30000">
                <a:solidFill>
                  <a:srgbClr val="00b050"/>
                </a:solidFill>
                <a:latin typeface="Perpetua"/>
              </a:rPr>
              <a:t>rd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 – 72.5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4</a:t>
            </a:r>
            <a:r>
              <a:rPr b="1" lang="en-US" sz="2400" spc="-1" strike="noStrike" baseline="30000">
                <a:solidFill>
                  <a:srgbClr val="00b0f0"/>
                </a:solidFill>
                <a:latin typeface="Perpetua"/>
              </a:rPr>
              <a:t>th</a:t>
            </a: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 – 51.5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Perpetua"/>
              </a:rPr>
              <a:t>Bldg. – 62.03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4-Sight 1/1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3</a:t>
            </a:r>
            <a:r>
              <a:rPr b="1" lang="en-US" sz="2400" spc="-1" strike="noStrike" baseline="30000">
                <a:solidFill>
                  <a:srgbClr val="00b050"/>
                </a:solidFill>
                <a:latin typeface="Perpetua"/>
              </a:rPr>
              <a:t>rd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 – 88.89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4</a:t>
            </a:r>
            <a:r>
              <a:rPr b="1" lang="en-US" sz="2400" spc="-1" strike="noStrike" baseline="30000">
                <a:solidFill>
                  <a:srgbClr val="00b0f0"/>
                </a:solidFill>
                <a:latin typeface="Perpetua"/>
              </a:rPr>
              <a:t>th</a:t>
            </a: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 – 77.55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Perpetua"/>
              </a:rPr>
              <a:t>Bldg. – 83.2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33800" y="1447920"/>
            <a:ext cx="374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Proficiency Goal = 78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4-Sight 9/1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3</a:t>
            </a:r>
            <a:r>
              <a:rPr b="1" lang="en-US" sz="2400" spc="-1" strike="noStrike" baseline="30000">
                <a:solidFill>
                  <a:srgbClr val="00b050"/>
                </a:solidFill>
                <a:latin typeface="Perpetua"/>
              </a:rPr>
              <a:t>rd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 – 31.31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4</a:t>
            </a:r>
            <a:r>
              <a:rPr b="1" lang="en-US" sz="2400" spc="-1" strike="noStrike" baseline="30000">
                <a:solidFill>
                  <a:srgbClr val="00b0f0"/>
                </a:solidFill>
                <a:latin typeface="Perpetua"/>
              </a:rPr>
              <a:t>th</a:t>
            </a: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 – 2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Perpetua"/>
              </a:rPr>
              <a:t>Bldg. – 26.66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4-Sight 1/1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3</a:t>
            </a:r>
            <a:r>
              <a:rPr b="1" lang="en-US" sz="2400" spc="-1" strike="noStrike" baseline="30000">
                <a:solidFill>
                  <a:srgbClr val="00b050"/>
                </a:solidFill>
                <a:latin typeface="Perpetua"/>
              </a:rPr>
              <a:t>rd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 – 63.37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4</a:t>
            </a:r>
            <a:r>
              <a:rPr b="1" lang="en-US" sz="2400" spc="-1" strike="noStrike" baseline="30000">
                <a:solidFill>
                  <a:srgbClr val="00b0f0"/>
                </a:solidFill>
                <a:latin typeface="Perpetua"/>
              </a:rPr>
              <a:t>th</a:t>
            </a:r>
            <a:r>
              <a:rPr b="1" lang="en-US" sz="2400" spc="-1" strike="noStrike">
                <a:solidFill>
                  <a:srgbClr val="00b0f0"/>
                </a:solidFill>
                <a:latin typeface="Perpetua"/>
              </a:rPr>
              <a:t> – 54.08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Perpetua"/>
              </a:rPr>
              <a:t>Bldg. – 58.72%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880" y="441360"/>
          <a:ext cx="8610840" cy="5807160"/>
        </p:xfrm>
        <a:graphic>
          <a:graphicData uri="http://schemas.openxmlformats.org/drawingml/2006/table">
            <a:tbl>
              <a:tblPr/>
              <a:tblGrid>
                <a:gridCol w="924120"/>
                <a:gridCol w="1528560"/>
                <a:gridCol w="1357560"/>
                <a:gridCol w="1303200"/>
                <a:gridCol w="1149480"/>
                <a:gridCol w="2347920"/>
              </a:tblGrid>
              <a:tr h="11779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jec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em # that was below the Proficiency % Target – Check box if concept will be covered prior to 1/12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ficiency  % Targe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 2011-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tudents Proficien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 item 9/11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tudents Proficient on item 1/12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vention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ee Below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32"/>
          <p:cNvSpPr/>
          <p:nvPr/>
        </p:nvSpPr>
        <p:spPr>
          <a:xfrm>
            <a:off x="380880" y="0"/>
            <a:ext cx="8458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Sight Data Analysis / Item Analysis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2438280" y="434340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2438280" y="37339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2438280" y="594360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2438280" y="495288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2438280" y="53341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6"/>
          <p:cNvSpPr/>
          <p:nvPr/>
        </p:nvSpPr>
        <p:spPr>
          <a:xfrm>
            <a:off x="2438280" y="30481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2438280" y="274320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2438280" y="46483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2438280" y="563868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2438280" y="403848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2438280" y="16765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2438280" y="205740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2438280" y="335268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438280" y="2362320"/>
            <a:ext cx="266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3"/>
          <p:cNvSpPr/>
          <p:nvPr/>
        </p:nvSpPr>
        <p:spPr>
          <a:xfrm>
            <a:off x="0" y="6162120"/>
            <a:ext cx="11963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**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Interven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: SAS Lessons (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must use at least 2 from SAS Website-  </a:t>
            </a: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Calibri"/>
                <a:hlinkClick r:id="rId1"/>
              </a:rPr>
              <a:t>www.pdesas.or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), COACH Books, Teacher created lesson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Study Island, Lessons and Online resources from Math and Reading Textbook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Please fill this out and submit the original to the office by October 14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914400"/>
          <a:ext cx="8763120" cy="5462640"/>
        </p:xfrm>
        <a:graphic>
          <a:graphicData uri="http://schemas.openxmlformats.org/drawingml/2006/table">
            <a:tbl>
              <a:tblPr/>
              <a:tblGrid>
                <a:gridCol w="870120"/>
                <a:gridCol w="1569960"/>
                <a:gridCol w="1393560"/>
                <a:gridCol w="1339920"/>
                <a:gridCol w="1177920"/>
                <a:gridCol w="2411640"/>
              </a:tblGrid>
              <a:tr h="97956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em # that was below the Proficiency %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ficiency  % Targ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 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tudents Profici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n item 9/11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% of students Proficient on item 1/12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rvention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ee Belo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"/>
          <p:cNvSpPr/>
          <p:nvPr/>
        </p:nvSpPr>
        <p:spPr>
          <a:xfrm>
            <a:off x="685800" y="152280"/>
            <a:ext cx="73724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  <a:ea typeface="Calibri"/>
              </a:rPr>
              <a:t>4-Sight Data Analysis / Item Analysis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235440" y="6259680"/>
            <a:ext cx="8850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**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Intervention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: SAS Lessons (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must use at least 2 from SAS Website-  </a:t>
            </a: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Calibri"/>
                <a:hlinkClick r:id="rId1"/>
              </a:rPr>
              <a:t>www.pdesas.or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), COACH Books, Teacher created lessons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Study Island, Lessons and Online resources from Math and Reading Textbook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Please fill this out and submit the original to the office by October 14, 20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1523880" y="685800"/>
            <a:ext cx="914400" cy="914400"/>
          </a:xfrm>
          <a:prstGeom prst="rect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1600200" y="2057400"/>
            <a:ext cx="9144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5-Point Star 3"/>
          <p:cNvSpPr/>
          <p:nvPr/>
        </p:nvSpPr>
        <p:spPr>
          <a:xfrm>
            <a:off x="1523880" y="34290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743200" y="685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achieved little to no gains, or decreased in score from Test 1 to Test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2971800" y="20574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achieved significant gains from Test 1 to Test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3200400" y="3733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just made Pro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Franklin Gothic Book"/>
              </a:rPr>
              <a:t>Reading Results – IEP Students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952880" y="838080"/>
          <a:ext cx="3749760" cy="509760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.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990720" y="914400"/>
          <a:ext cx="3749400" cy="511164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9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asic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 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 /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952880" y="6248520"/>
          <a:ext cx="3733920" cy="431640"/>
        </p:xfrm>
        <a:graphic>
          <a:graphicData uri="http://schemas.openxmlformats.org/drawingml/2006/table">
            <a:tbl>
              <a:tblPr/>
              <a:tblGrid>
                <a:gridCol w="1244880"/>
                <a:gridCol w="1244520"/>
                <a:gridCol w="12445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5-Point Star 14"/>
          <p:cNvSpPr/>
          <p:nvPr/>
        </p:nvSpPr>
        <p:spPr>
          <a:xfrm>
            <a:off x="4114800" y="3429000"/>
            <a:ext cx="380880" cy="304920"/>
          </a:xfrm>
          <a:custGeom>
            <a:avLst/>
            <a:gdLst>
              <a:gd name="textAreaLeft" fmla="*/ 117720 w 380880"/>
              <a:gd name="textAreaRight" fmla="*/ 263160 w 38088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6" y="304799"/>
                </a:lnTo>
                <a:lnTo>
                  <a:pt x="190500" y="232845"/>
                </a:lnTo>
                <a:lnTo>
                  <a:pt x="72764" y="304799"/>
                </a:lnTo>
                <a:lnTo>
                  <a:pt x="117737" y="18837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-Point Star 15"/>
          <p:cNvSpPr/>
          <p:nvPr/>
        </p:nvSpPr>
        <p:spPr>
          <a:xfrm>
            <a:off x="8229600" y="586728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1523880"/>
            <a:ext cx="10666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6464"/>
                </a:solidFill>
                <a:latin typeface="Franklin Gothic Book"/>
              </a:rPr>
              <a:t>Reading Results – TITLE I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38080" y="777960"/>
          <a:ext cx="3749760" cy="587376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.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952880" y="762120"/>
          <a:ext cx="3749760" cy="510048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ing Results EL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914400" y="1447920"/>
          <a:ext cx="3749760" cy="205740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95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933800" y="1447920"/>
          <a:ext cx="3749760" cy="3349440"/>
        </p:xfrm>
        <a:graphic>
          <a:graphicData uri="http://schemas.openxmlformats.org/drawingml/2006/table">
            <a:tbl>
              <a:tblPr/>
              <a:tblGrid>
                <a:gridCol w="1249560"/>
                <a:gridCol w="1251000"/>
                <a:gridCol w="124920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Perpetu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s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/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B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80" name="5-Point Star 6"/>
          <p:cNvSpPr/>
          <p:nvPr/>
        </p:nvSpPr>
        <p:spPr>
          <a:xfrm>
            <a:off x="8077320" y="4343400"/>
            <a:ext cx="380880" cy="304920"/>
          </a:xfrm>
          <a:custGeom>
            <a:avLst/>
            <a:gdLst>
              <a:gd name="textAreaLeft" fmla="*/ 117720 w 380880"/>
              <a:gd name="textAreaRight" fmla="*/ 263160 w 38088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6" y="304799"/>
                </a:lnTo>
                <a:lnTo>
                  <a:pt x="190500" y="232845"/>
                </a:lnTo>
                <a:lnTo>
                  <a:pt x="72764" y="304799"/>
                </a:lnTo>
                <a:lnTo>
                  <a:pt x="117737" y="188376"/>
                </a:lnTo>
                <a:close/>
              </a:path>
            </a:pathLst>
          </a:custGeom>
          <a:solidFill>
            <a:srgbClr val="d34817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7:25:16Z</dcterms:created>
  <dc:creator>demaior</dc:creator>
  <dc:description/>
  <dc:language>en-US</dc:language>
  <cp:lastModifiedBy>Christina Lutz-Doemling</cp:lastModifiedBy>
  <dcterms:modified xsi:type="dcterms:W3CDTF">2012-04-19T20:03:20Z</dcterms:modified>
  <cp:revision>48</cp:revision>
  <dc:subject/>
  <dc:title>4-Sight Data Analysis</dc:title>
</cp:coreProperties>
</file>